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03D-3505-4F1A-AABC-EA443366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174-62EE-4930-A7FB-CA1F4958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A2A-39B5-4EE9-A698-D0888D83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8932-ABB4-436C-ABAD-0040E2BF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119-1BA8-499E-AC79-BAB84CED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844-F3FC-4913-BCDB-9E549CFE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AE1-97B7-41F3-AFBD-966C1526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6D8-EFCE-4940-885B-3CEF4535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7B7-42B3-4590-932B-A05A219D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284-BBE3-41F7-B78E-DD63C0F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096-2054-4B0E-8DDA-BF55E703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13A-EACE-4826-9242-C423FAA6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3426-99C2-46C1-BC27-64D667CAF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SECURITY INFORMATION ANNUAL CONTAINER INSPEC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09800" y="2630520"/>
          <a:ext cx="365760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9800" y="2630520"/>
                    <a:ext cx="365760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4502160" y="3740040"/>
            <a:ext cx="291960" cy="2923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7240" y="3968640"/>
            <a:ext cx="12960" cy="63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6880" y="3664080"/>
            <a:ext cx="29196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7440" y="3664080"/>
            <a:ext cx="292320" cy="2919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21280" y="3359160"/>
            <a:ext cx="4442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98600" y="3367080"/>
            <a:ext cx="450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5760" y="2986200"/>
            <a:ext cx="565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CR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d 6/10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5257800"/>
            <a:ext cx="38862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, Office of Security, Eastern Regional Security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Granby Street, Room 4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folk, VA. 23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757) 441-3431/3415/36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D95-6610-4736-B14E-EFA80ECFBF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ruction of Classified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“burn bags” to collect classified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 them as any classifi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te includes:  paper, floppy disks, typewriter or printer ribbons, carbon pap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ing (at an approved facil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redding (*cross-cut using a GSA approved shredder for TS, Secret, and Confidential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verify cross-cut with Servicing Securit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8C1-216D-4C4F-B0A7-A4CB7887E6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truction  (cont…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lting, chemical decomposition, mutila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Servicing Security Officer when using other than “burning” or “shredding”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D7F5-CE5D-4E95-AF94-EE60D605A7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LASSIFIED DOCUMENTS FOR PROPER MAR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lassified document should be mark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/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ra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, map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ssification instru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6000" y="5241960"/>
            <a:ext cx="40104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: E.O. 12958, Sect 1.9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challen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perly marked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from other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1415880"/>
            <a:ext cx="295920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00880" y="1644480"/>
            <a:ext cx="295884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1873080"/>
            <a:ext cx="295884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67360" y="2101680"/>
            <a:ext cx="295920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2330280"/>
            <a:ext cx="2959200" cy="38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2311560"/>
            <a:ext cx="806400" cy="330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27320" y="234648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5873760"/>
            <a:ext cx="806400" cy="3301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27320" y="592776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7600" y="160344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67680" y="3575160"/>
            <a:ext cx="225360" cy="2379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15080" y="3841920"/>
            <a:ext cx="412560" cy="2286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62520" y="2765520"/>
            <a:ext cx="2902320" cy="26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SECR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ORANDU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OM:  DS/ISP/AP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:        INR/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BJECT:  REQUEST FOR INFORMATION</a:t>
            </a: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 (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  (S)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s viewgraph shows individuals wh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portion marking looks lik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.  (S)  A portion marking should always prece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text within a para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.  Other agencies put their portion markings a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d of their paragraphs, however is not the poli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within the Department of State (U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7601040" y="3225600"/>
            <a:ext cx="723960" cy="927000"/>
          </a:xfrm>
          <a:prstGeom prst="triangle">
            <a:avLst>
              <a:gd name="adj" fmla="val 49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62840" y="3321000"/>
            <a:ext cx="863640" cy="71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56080" y="3446640"/>
            <a:ext cx="6436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(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6720000">
            <a:off x="4163400" y="3286080"/>
            <a:ext cx="752400" cy="857160"/>
          </a:xfrm>
          <a:prstGeom prst="triangle">
            <a:avLst>
              <a:gd name="adj" fmla="val 49986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529800" y="3149640"/>
            <a:ext cx="992520" cy="711000"/>
            <a:chOff x="3529800" y="3149640"/>
            <a:chExt cx="992520" cy="711000"/>
          </a:xfrm>
        </p:grpSpPr>
        <p:sp>
          <p:nvSpPr>
            <p:cNvPr id="255" name=""/>
            <p:cNvSpPr/>
            <p:nvPr/>
          </p:nvSpPr>
          <p:spPr>
            <a:xfrm>
              <a:off x="3564000" y="3149640"/>
              <a:ext cx="920520" cy="71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29800" y="3255840"/>
              <a:ext cx="99252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en-US" sz="2600" spc="-1" strike="noStrike">
                  <a:solidFill>
                    <a:srgbClr val="ff0033"/>
                  </a:solidFill>
                  <a:latin typeface="Arial"/>
                </a:rPr>
                <a:t>(S)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881600" y="5345280"/>
            <a:ext cx="1258920" cy="63000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08600" y="5427720"/>
            <a:ext cx="12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CLASSIFIED BY:  M.Stevens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Director, I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REASON:  1.5(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3333cc"/>
                </a:solidFill>
                <a:latin typeface="Arial"/>
              </a:rPr>
              <a:t>DECLASSIFY ON:  2/17/0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08800" y="6391440"/>
            <a:ext cx="301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CLASSIFIED FOR TRAINING PURPOSES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080" y="206064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60840" y="185112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94000" y="1374840"/>
            <a:ext cx="90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E4B7-5AEC-431C-8B54-56D54EA347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SSIFIED WORKING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7280" y="1736640"/>
            <a:ext cx="77014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ed working papers are drafts, notes, photograph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create or assist in the preparation of a final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ust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Dated and signed when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Marked with highest classification level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which they con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Protected in accordance with the assig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Destroyed when no longer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Accounted for and controlled if transmitte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ly filed, or retained after 18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244440"/>
          <a:ext cx="189396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4440"/>
                    <a:ext cx="189396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8B7-8FD4-4591-A6FB-D6BED9B48F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VER SHE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640" y="2147760"/>
            <a:ext cx="8743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sure that all classified documents and files sto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your security container have the appropriate cover she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98560" y="1584360"/>
            <a:ext cx="165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AIN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6700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6400" y="4064040"/>
            <a:ext cx="1797120" cy="2349360"/>
          </a:xfrm>
          <a:prstGeom prst="rect">
            <a:avLst/>
          </a:prstGeom>
          <a:solidFill>
            <a:srgbClr val="fc67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73600" y="4064040"/>
            <a:ext cx="1797120" cy="234936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40440" y="4064040"/>
            <a:ext cx="1797120" cy="23493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16000" y="436896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78160" y="436896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7440" y="4368960"/>
            <a:ext cx="118728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70760" y="438300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70760" y="583092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83720" y="471960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182840" y="511020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79120" y="580248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49120" y="466884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52920" y="505944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27240" y="580860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72280" y="434484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72280" y="585000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21560" y="468792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5000" y="507852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18400" y="580860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30400" y="437040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30400" y="585000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26240" y="646128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93080" y="642312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60280" y="642312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760" y="1523880"/>
            <a:ext cx="9064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817-A405-4FE5-A8D8-18100742B7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652320" y="2171880"/>
          <a:ext cx="423720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171880"/>
                    <a:ext cx="42372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567400" y="2162160"/>
            <a:ext cx="3306600" cy="3384720"/>
          </a:xfrm>
          <a:custGeom>
            <a:avLst/>
            <a:gdLst/>
            <a:ahLst/>
            <a:rect l="l" t="t" r="r" b="b"/>
            <a:pathLst>
              <a:path w="2083" h="2132">
                <a:moveTo>
                  <a:pt x="1" y="84"/>
                </a:moveTo>
                <a:lnTo>
                  <a:pt x="2" y="71"/>
                </a:lnTo>
                <a:lnTo>
                  <a:pt x="5" y="59"/>
                </a:lnTo>
                <a:lnTo>
                  <a:pt x="10" y="45"/>
                </a:lnTo>
                <a:lnTo>
                  <a:pt x="17" y="36"/>
                </a:lnTo>
                <a:lnTo>
                  <a:pt x="27" y="24"/>
                </a:lnTo>
                <a:lnTo>
                  <a:pt x="36" y="16"/>
                </a:lnTo>
                <a:lnTo>
                  <a:pt x="51" y="7"/>
                </a:lnTo>
                <a:lnTo>
                  <a:pt x="67" y="0"/>
                </a:lnTo>
                <a:lnTo>
                  <a:pt x="2022" y="0"/>
                </a:lnTo>
                <a:lnTo>
                  <a:pt x="2035" y="4"/>
                </a:lnTo>
                <a:lnTo>
                  <a:pt x="2047" y="10"/>
                </a:lnTo>
                <a:lnTo>
                  <a:pt x="2060" y="21"/>
                </a:lnTo>
                <a:lnTo>
                  <a:pt x="2070" y="32"/>
                </a:lnTo>
                <a:lnTo>
                  <a:pt x="2077" y="44"/>
                </a:lnTo>
                <a:lnTo>
                  <a:pt x="2082" y="60"/>
                </a:lnTo>
                <a:lnTo>
                  <a:pt x="2082" y="2023"/>
                </a:lnTo>
                <a:lnTo>
                  <a:pt x="2080" y="2041"/>
                </a:lnTo>
                <a:lnTo>
                  <a:pt x="2075" y="2062"/>
                </a:lnTo>
                <a:lnTo>
                  <a:pt x="2067" y="2078"/>
                </a:lnTo>
                <a:lnTo>
                  <a:pt x="2055" y="2091"/>
                </a:lnTo>
                <a:lnTo>
                  <a:pt x="2040" y="2101"/>
                </a:lnTo>
                <a:lnTo>
                  <a:pt x="2022" y="2107"/>
                </a:lnTo>
                <a:lnTo>
                  <a:pt x="243" y="2107"/>
                </a:lnTo>
                <a:lnTo>
                  <a:pt x="243" y="2131"/>
                </a:lnTo>
                <a:lnTo>
                  <a:pt x="140" y="2131"/>
                </a:lnTo>
                <a:lnTo>
                  <a:pt x="0" y="1978"/>
                </a:lnTo>
                <a:lnTo>
                  <a:pt x="1" y="84"/>
                </a:lnTo>
              </a:path>
            </a:pathLst>
          </a:custGeom>
          <a:solidFill>
            <a:srgbClr val="114ffb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962680" y="2163600"/>
            <a:ext cx="2444760" cy="193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04800" y="2773440"/>
            <a:ext cx="2314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Classified By:  Ambassador Sm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Reason:  1.5(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Declassify On:  September 20 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Property Of:  AMEmbassy Vien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                       </a:t>
            </a: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Office of D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28880" y="220500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35960" y="2419200"/>
            <a:ext cx="20016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319800" y="4486320"/>
            <a:ext cx="2087640" cy="1008000"/>
            <a:chOff x="6319800" y="4486320"/>
            <a:chExt cx="2087640" cy="1008000"/>
          </a:xfrm>
        </p:grpSpPr>
        <p:sp>
          <p:nvSpPr>
            <p:cNvPr id="305" name=""/>
            <p:cNvSpPr/>
            <p:nvPr/>
          </p:nvSpPr>
          <p:spPr>
            <a:xfrm>
              <a:off x="6319800" y="4486320"/>
              <a:ext cx="2087640" cy="10080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04240" y="4486320"/>
              <a:ext cx="398520" cy="10033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561000" y="4610160"/>
            <a:ext cx="344520" cy="77004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41520" y="1776240"/>
            <a:ext cx="6701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8960" y="2311560"/>
            <a:ext cx="2921040" cy="90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83080" y="6113520"/>
            <a:ext cx="2980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CLASSIFIED FOR TRAINING PURPOSES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66360" y="23572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Arial"/>
              </a:rPr>
              <a:t>SEC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32080" y="16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39040" y="198360"/>
            <a:ext cx="5034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IED DISKET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19080" y="662040"/>
            <a:ext cx="8737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SURE TO USE THE SFs 706, 707, 708 FOR CLASSIFIED DISKETTES AND MED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D IN YOUR SECURITY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40" y="990720"/>
            <a:ext cx="9140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BDF-BD24-4D2A-9087-0A9858BE48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603440" y="404640"/>
            <a:ext cx="67006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ed Compact Di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2724120"/>
          <a:ext cx="3384720" cy="33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724120"/>
                    <a:ext cx="3384720" cy="33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4059360" y="2260440"/>
            <a:ext cx="4146480" cy="4089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29200" y="2330280"/>
            <a:ext cx="4006800" cy="3949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10320" y="3892680"/>
            <a:ext cx="84456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38920" y="4102200"/>
            <a:ext cx="387360" cy="406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17640" y="2617920"/>
            <a:ext cx="3231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United States of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Department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AMEMBASSY PARI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Telegrams from 01/01/92 to 12/31/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3881160" y="4073400"/>
            <a:ext cx="141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rot="5400000">
            <a:off x="6891120" y="4071960"/>
            <a:ext cx="1418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Arial"/>
              </a:rPr>
              <a:t>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50480" y="5113440"/>
            <a:ext cx="32374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CLASSIFIED BY:  DAS W.Jones, A Bur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REASON:  1.5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69696"/>
                </a:solidFill>
                <a:latin typeface="Arial"/>
              </a:rPr>
              <a:t>DECLASSIFY ON:  X6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49800" y="3130560"/>
            <a:ext cx="1854360" cy="23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68840" y="5843520"/>
            <a:ext cx="114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Impact"/>
              </a:rPr>
              <a:t>CN  0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6320" y="1203480"/>
            <a:ext cx="784152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 SURE TO USE THE SFs 706, 707, 708 FOR CLASSIFI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 d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D IN YOUR SECURITY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0" y="121932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54080" y="6113520"/>
            <a:ext cx="2980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69696"/>
                </a:solidFill>
                <a:latin typeface="Arial"/>
              </a:rPr>
              <a:t>CLASSIFIED FOR TRAINING PURPOSES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3D01-6B42-48C0-81C6-978842EEFB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BINATION CHANG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ntainer is placed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 individual knowing the combination no longer requires access to the 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combination has been subjected to possible compromise;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container is taken out of service (reset to standard combination 50-25-50 (10-20-30 for padloc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10B-80A3-4A90-B8F0-BEEDCBF1F9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Do no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store these items with classified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ns/ammu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.e., Special Agents, Investiga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ious m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i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s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welr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311520" y="3416400"/>
            <a:ext cx="870120" cy="482400"/>
          </a:xfrm>
          <a:prstGeom prst="rect">
            <a:avLst/>
          </a:prstGeom>
          <a:noFill/>
          <a:ln w="25560">
            <a:solidFill>
              <a:srgbClr val="ff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105520" y="2462040"/>
          <a:ext cx="13604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62040"/>
                    <a:ext cx="13604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6172200" y="3884760"/>
          <a:ext cx="181764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3884760"/>
                    <a:ext cx="181764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5411880" y="2820960"/>
            <a:ext cx="2589120" cy="2284560"/>
          </a:xfrm>
          <a:prstGeom prst="line">
            <a:avLst/>
          </a:prstGeom>
          <a:ln w="507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0" y="190512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9B04-E0FF-4851-9F27-78540C2B8A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D-OF-DAY SECURITY CHE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all classified info to appropriate security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store all typewriter ribbons, floppy disks, carbons, and working materials containing classified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store or destroy classified wa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wastebaskets &amp; recycle containers do not contain N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check security container(s) lo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doors &amp; windows to the area are lo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009-E7FB-49F1-9CEE-39E78C7222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know your Security Point of Contac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289080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33560" y="2895120"/>
            <a:ext cx="51814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roll Ward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al Security Offic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57) 441-34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m Ruhle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t. Regional Security Offi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57) 441-3415/36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Fax (757) 441-34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F17-757F-4CE0-A7AB-A9BC795D85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D-OF-DAY SECURITY CHECK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 ignition keys (CIKs) are removed from STU-III equipment and properly safeguarded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rms (if in place) are activated proper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0CF-F91F-4DF2-A0AE-8D31CEAA8D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D OF THE DAY CH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 Activity Security Checklist, SF-7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ix to a door immediately adjacent to the office 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vidual responsible for end-of-day security checks must thoroughly check entire work area(s) where classified information is processed, handled, discussed, and sto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tate the SF-7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3C4-4988-4EC6-BF30-0DC317C9C7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YOU COMPLETE CONTAINER INSP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720" y="2300400"/>
            <a:ext cx="881856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ustodian certifies compliance and signs t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ertification form. (All discrepancies are re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gional servicing security officer and correcte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Bureau/Unit Heads verifies compliance and sign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certification form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28600" y="98280"/>
          <a:ext cx="846000" cy="17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8280"/>
                    <a:ext cx="846000" cy="17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7924680" y="928800"/>
          <a:ext cx="1040040" cy="18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928800"/>
                    <a:ext cx="104004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33F-308B-4389-A995-CD193BD2BB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203640" y="404640"/>
            <a:ext cx="2739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943280" y="1204920"/>
          <a:ext cx="527040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1204920"/>
                    <a:ext cx="527040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"/>
          <p:cNvSpPr/>
          <p:nvPr/>
        </p:nvSpPr>
        <p:spPr>
          <a:xfrm>
            <a:off x="3429000" y="1676520"/>
            <a:ext cx="2209680" cy="82404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 &amp;  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281600" y="318960"/>
            <a:ext cx="4418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440" y="114300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65440" y="3657600"/>
            <a:ext cx="1920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S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750-3A61-4AB7-BEFE-4A1A487C3A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or to the insp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7680" y="1889280"/>
            <a:ext cx="8344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dian’s are required to conduct a security container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ually and certify compliance with DOC Policy DAO 207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81200" y="4800600"/>
          <a:ext cx="365616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1200" y="4800600"/>
                    <a:ext cx="365616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7760" y="1600200"/>
            <a:ext cx="9064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39D-7F4E-4438-A0F8-E865B1DEF1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tection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tional Security Information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S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560" y="1889280"/>
            <a:ext cx="7706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ational Security In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I is official information that relates to national defense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relations and is the property of the U.S. Government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lso known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ified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re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of classification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7680" y="404640"/>
            <a:ext cx="6701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7800" y="3759120"/>
            <a:ext cx="1797120" cy="2349720"/>
          </a:xfrm>
          <a:prstGeom prst="rect">
            <a:avLst/>
          </a:prstGeom>
          <a:solidFill>
            <a:srgbClr val="fc670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45000" y="3759120"/>
            <a:ext cx="1797120" cy="234972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11840" y="3759120"/>
            <a:ext cx="1797120" cy="23497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7400" y="406404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49560" y="4064040"/>
            <a:ext cx="11876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08840" y="4064040"/>
            <a:ext cx="118728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42160" y="407844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42160" y="5526000"/>
            <a:ext cx="80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55120" y="441468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3333cc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4240" y="480528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50520" y="549756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3333cc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20520" y="436392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4320" y="475452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98640" y="550404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000000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43680" y="404028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43680" y="5545080"/>
            <a:ext cx="1319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92960" y="4383000"/>
            <a:ext cx="779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THIS IS A COVER SHEET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fc6703"/>
                </a:solidFill>
                <a:latin typeface="Arial"/>
              </a:rPr>
              <a:t>FOR CLASSIFIED INFORM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96400" y="4773600"/>
            <a:ext cx="11725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ALL INDIVIDUALS HANDLING THIS INFORMATION ARE REQUIRED TO PROTECT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IT FROM UNAUTHORIZED DISCLOSURE IN THE INTEREST OF THE NATIONAL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SECURITY OF THE UNITED STATE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HANDLING, STORAGE, REPRODUCTION AND DISPOSITION OF THE ATTACHED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DOCUMENT MUST BE IN ACCORDANCE WITH APPLICABLE EXECUTIVE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ORDER(S), STATUE(S) AND AGENCY IMPLEMENTING REGULATIONS.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89800" y="5504040"/>
            <a:ext cx="585720" cy="1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" spc="-1" strike="noStrike">
                <a:solidFill>
                  <a:srgbClr val="fc6703"/>
                </a:solidFill>
                <a:latin typeface="Arial"/>
              </a:rPr>
              <a:t>(This cover sheet is unclassified)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01800" y="406548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5545080"/>
            <a:ext cx="1160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c6703"/>
                </a:solidFill>
                <a:latin typeface="Arial"/>
              </a:rPr>
              <a:t>TOP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97640" y="615636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SF 7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64480" y="611820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1680" y="6118200"/>
            <a:ext cx="759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Arial"/>
              </a:rPr>
              <a:t>SF 7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AC2-717A-445A-8486-846BDCD30C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ive Order 12958, Classified National Security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ing Directive for E.O. 12958,  32 CFR PART 2001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O 207-1, Information Security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95600" y="228600"/>
          <a:ext cx="106020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5600" y="228600"/>
                    <a:ext cx="106020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5105520" y="533520"/>
          <a:ext cx="2243160" cy="188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533520"/>
                    <a:ext cx="224316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C37-EC10-4FEE-A767-86F60A52BD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SECURITY CONTAINER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1200" y="2879640"/>
            <a:ext cx="7517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SA Approved security 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fe (Mosler, or Hamilton produc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9360" y="1889280"/>
            <a:ext cx="782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 storage of classified national security information, i.e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ecret, Secret, or Confidential  You MUST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0" y="175248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71600" y="2792520"/>
          <a:ext cx="1031760" cy="12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92520"/>
                    <a:ext cx="10317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85720" y="304920"/>
          <a:ext cx="129060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5720" y="304920"/>
                    <a:ext cx="12906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939-2173-45D1-B9A4-3B6C13FD86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your Security Container should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F 7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ecurity Container Information. (Completed and up-to-date).  MEMORIZE YOUR combination!!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F 70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ecurity Container Check Sheet. (Use every time open, closed, or check contain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EN/CLOSE sig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(Used as a remin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 CD-48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Classified Document Control Record. (All Secret and Top Secret material stored 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ntainer MUST be logg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0840" y="16905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419720" y="2590920"/>
            <a:ext cx="3749400" cy="3072960"/>
            <a:chOff x="4419720" y="2590920"/>
            <a:chExt cx="3749400" cy="3072960"/>
          </a:xfrm>
        </p:grpSpPr>
        <p:sp>
          <p:nvSpPr>
            <p:cNvPr id="106" name=""/>
            <p:cNvSpPr/>
            <p:nvPr/>
          </p:nvSpPr>
          <p:spPr>
            <a:xfrm>
              <a:off x="6556320" y="4048920"/>
              <a:ext cx="313200" cy="1274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23720" y="3101760"/>
              <a:ext cx="1595160" cy="2562120"/>
            </a:xfrm>
            <a:prstGeom prst="cube">
              <a:avLst>
                <a:gd name="adj" fmla="val 24986"/>
              </a:avLst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15880" y="3597480"/>
              <a:ext cx="1044720" cy="4431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15880" y="4680000"/>
              <a:ext cx="999720" cy="352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15880" y="5130720"/>
              <a:ext cx="999720" cy="352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15040" y="3605400"/>
              <a:ext cx="703800" cy="24624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94240" y="3597120"/>
              <a:ext cx="10803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06960" y="3778200"/>
              <a:ext cx="267120" cy="217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4419720" y="3420360"/>
              <a:ext cx="1258920" cy="343440"/>
              <a:chOff x="4419720" y="3420360"/>
              <a:chExt cx="1258920" cy="343440"/>
            </a:xfrm>
          </p:grpSpPr>
          <p:sp>
            <p:nvSpPr>
              <p:cNvPr id="115" name=""/>
              <p:cNvSpPr/>
              <p:nvPr/>
            </p:nvSpPr>
            <p:spPr>
              <a:xfrm>
                <a:off x="4452840" y="3420360"/>
                <a:ext cx="1225800" cy="313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19720" y="3437280"/>
                <a:ext cx="113868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F-7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994000" y="3814560"/>
              <a:ext cx="2750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915880" y="4093920"/>
              <a:ext cx="1044720" cy="488160"/>
            </a:xfrm>
            <a:prstGeom prst="cube">
              <a:avLst>
                <a:gd name="adj" fmla="val 24986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15880" y="4229280"/>
              <a:ext cx="907560" cy="3528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282000" y="4274280"/>
              <a:ext cx="129240" cy="127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8400" y="4496040"/>
              <a:ext cx="27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828840" y="4090680"/>
              <a:ext cx="136080" cy="13428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828840" y="4451400"/>
              <a:ext cx="136080" cy="134280"/>
            </a:xfrm>
            <a:prstGeom prst="line">
              <a:avLst/>
            </a:prstGeom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78400" y="4901760"/>
              <a:ext cx="27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78400" y="5352480"/>
              <a:ext cx="274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912280" y="4090680"/>
              <a:ext cx="136080" cy="134280"/>
            </a:xfrm>
            <a:prstGeom prst="line">
              <a:avLst/>
            </a:prstGeom>
            <a:ln w="12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24480" y="3954960"/>
              <a:ext cx="273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37960" y="3730320"/>
              <a:ext cx="392760" cy="446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22440" y="2590920"/>
              <a:ext cx="1246320" cy="31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44400" y="2604600"/>
              <a:ext cx="12247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F-7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69040" y="2902320"/>
              <a:ext cx="24840" cy="64656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CE1-1174-44D4-B653-8BF87D981F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9440" y="1014480"/>
            <a:ext cx="16732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17680" y="1765440"/>
            <a:ext cx="3994200" cy="450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06760" y="2044800"/>
            <a:ext cx="3473280" cy="421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7040" y="2044800"/>
            <a:ext cx="3473640" cy="38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83360" y="2108160"/>
            <a:ext cx="349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 CONTAINER CHECK SH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7040" y="2444760"/>
            <a:ext cx="3473640" cy="39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8080" y="2449440"/>
            <a:ext cx="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24320" y="2449440"/>
            <a:ext cx="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91200" y="2449440"/>
            <a:ext cx="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6120" y="2452680"/>
            <a:ext cx="485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02720" y="2436840"/>
            <a:ext cx="5796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ROOM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0240" y="2436840"/>
            <a:ext cx="5536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55920" y="2436840"/>
            <a:ext cx="7945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ONTAINER NO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7040" y="2854440"/>
            <a:ext cx="3473640" cy="18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0160" y="2851200"/>
            <a:ext cx="10674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7040" y="3054240"/>
            <a:ext cx="347364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78320" y="3052800"/>
            <a:ext cx="3376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  CERTIFY,  BY  MY  INITIALS  BELOW,  THAT  I  HAVE  OPENE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LOSED  OR  CHECKED  THIS  SECURITY  CONTA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  ACCORDANCE  WITH  PERTINENT  AGENCY  REGUL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 OPERATING  INSTRU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7040" y="3664080"/>
            <a:ext cx="3473640" cy="2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12880" y="3637080"/>
            <a:ext cx="6969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MONTH/YE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97040" y="3921120"/>
            <a:ext cx="3473640" cy="37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7040" y="3921120"/>
            <a:ext cx="34920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59200" y="3921120"/>
            <a:ext cx="74916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20960" y="3921120"/>
            <a:ext cx="75888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2800" y="3921120"/>
            <a:ext cx="787320" cy="23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54160" y="417204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1680" y="3894120"/>
            <a:ext cx="239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61440" y="3989520"/>
            <a:ext cx="6314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PEN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3760" y="3989520"/>
            <a:ext cx="6285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LOS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46800" y="3989520"/>
            <a:ext cx="6865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HECKED B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28000" y="3913200"/>
            <a:ext cx="7549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GUARD CHEC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(if required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0736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5976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3124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9960" y="4151160"/>
            <a:ext cx="503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INITIA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81480" y="4173480"/>
            <a:ext cx="0" cy="209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43240" y="4183200"/>
            <a:ext cx="0" cy="20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24440" y="4183200"/>
            <a:ext cx="0" cy="20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6492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3640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1760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36600" y="4151160"/>
            <a:ext cx="3679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34080" y="4183200"/>
            <a:ext cx="0" cy="20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2360" y="4552920"/>
            <a:ext cx="348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02080" y="4800600"/>
            <a:ext cx="347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2360" y="5048280"/>
            <a:ext cx="348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2360" y="5295960"/>
            <a:ext cx="348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7040" y="5538960"/>
            <a:ext cx="347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90920" y="5799240"/>
            <a:ext cx="347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95360" y="5610240"/>
            <a:ext cx="4116600" cy="782640"/>
          </a:xfrm>
          <a:custGeom>
            <a:avLst/>
            <a:gdLst/>
            <a:ahLst/>
            <a:rect l="l" t="t" r="r" b="b"/>
            <a:pathLst>
              <a:path w="2593" h="493">
                <a:moveTo>
                  <a:pt x="2592" y="492"/>
                </a:moveTo>
                <a:lnTo>
                  <a:pt x="6" y="492"/>
                </a:lnTo>
                <a:lnTo>
                  <a:pt x="0" y="18"/>
                </a:lnTo>
                <a:lnTo>
                  <a:pt x="168" y="234"/>
                </a:lnTo>
                <a:lnTo>
                  <a:pt x="493" y="18"/>
                </a:lnTo>
                <a:lnTo>
                  <a:pt x="577" y="234"/>
                </a:lnTo>
                <a:lnTo>
                  <a:pt x="722" y="0"/>
                </a:lnTo>
                <a:lnTo>
                  <a:pt x="968" y="234"/>
                </a:lnTo>
                <a:lnTo>
                  <a:pt x="1143" y="98"/>
                </a:lnTo>
                <a:lnTo>
                  <a:pt x="1293" y="271"/>
                </a:lnTo>
                <a:lnTo>
                  <a:pt x="1455" y="18"/>
                </a:lnTo>
                <a:lnTo>
                  <a:pt x="1648" y="234"/>
                </a:lnTo>
                <a:lnTo>
                  <a:pt x="1834" y="98"/>
                </a:lnTo>
                <a:lnTo>
                  <a:pt x="2117" y="234"/>
                </a:lnTo>
                <a:lnTo>
                  <a:pt x="2357" y="86"/>
                </a:lnTo>
                <a:lnTo>
                  <a:pt x="2592" y="295"/>
                </a:lnTo>
                <a:lnTo>
                  <a:pt x="2592" y="49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73000" y="3632040"/>
            <a:ext cx="112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Y /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29080" y="4400640"/>
            <a:ext cx="63360" cy="125280"/>
          </a:xfrm>
          <a:custGeom>
            <a:avLst/>
            <a:gdLst/>
            <a:ahLst/>
            <a:rect l="l" t="t" r="r" b="b"/>
            <a:pathLst>
              <a:path w="40" h="79">
                <a:moveTo>
                  <a:pt x="15" y="0"/>
                </a:moveTo>
                <a:lnTo>
                  <a:pt x="15" y="9"/>
                </a:lnTo>
                <a:lnTo>
                  <a:pt x="15" y="18"/>
                </a:lnTo>
                <a:lnTo>
                  <a:pt x="12" y="27"/>
                </a:lnTo>
                <a:lnTo>
                  <a:pt x="9" y="36"/>
                </a:lnTo>
                <a:lnTo>
                  <a:pt x="18" y="39"/>
                </a:lnTo>
                <a:lnTo>
                  <a:pt x="27" y="39"/>
                </a:lnTo>
                <a:lnTo>
                  <a:pt x="33" y="48"/>
                </a:lnTo>
                <a:lnTo>
                  <a:pt x="39" y="57"/>
                </a:lnTo>
                <a:lnTo>
                  <a:pt x="39" y="66"/>
                </a:lnTo>
                <a:lnTo>
                  <a:pt x="39" y="75"/>
                </a:lnTo>
                <a:lnTo>
                  <a:pt x="30" y="78"/>
                </a:lnTo>
                <a:lnTo>
                  <a:pt x="21" y="78"/>
                </a:lnTo>
                <a:lnTo>
                  <a:pt x="12" y="78"/>
                </a:lnTo>
                <a:lnTo>
                  <a:pt x="3" y="72"/>
                </a:lnTo>
                <a:lnTo>
                  <a:pt x="0" y="6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57520" y="4395960"/>
            <a:ext cx="58680" cy="1440"/>
          </a:xfrm>
          <a:custGeom>
            <a:avLst/>
            <a:gdLst/>
            <a:ahLst/>
            <a:rect l="l" t="t" r="r" b="b"/>
            <a:pathLst>
              <a:path w="37" h="1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05040" y="4357800"/>
            <a:ext cx="144360" cy="182520"/>
          </a:xfrm>
          <a:custGeom>
            <a:avLst/>
            <a:gdLst/>
            <a:ahLst/>
            <a:rect l="l" t="t" r="r" b="b"/>
            <a:pathLst>
              <a:path w="91" h="115">
                <a:moveTo>
                  <a:pt x="0" y="114"/>
                </a:moveTo>
                <a:lnTo>
                  <a:pt x="9" y="111"/>
                </a:lnTo>
                <a:lnTo>
                  <a:pt x="18" y="105"/>
                </a:lnTo>
                <a:lnTo>
                  <a:pt x="27" y="99"/>
                </a:lnTo>
                <a:lnTo>
                  <a:pt x="33" y="90"/>
                </a:lnTo>
                <a:lnTo>
                  <a:pt x="39" y="81"/>
                </a:lnTo>
                <a:lnTo>
                  <a:pt x="45" y="72"/>
                </a:lnTo>
                <a:lnTo>
                  <a:pt x="48" y="63"/>
                </a:lnTo>
                <a:lnTo>
                  <a:pt x="54" y="54"/>
                </a:lnTo>
                <a:lnTo>
                  <a:pt x="60" y="45"/>
                </a:lnTo>
                <a:lnTo>
                  <a:pt x="66" y="36"/>
                </a:lnTo>
                <a:lnTo>
                  <a:pt x="72" y="27"/>
                </a:lnTo>
                <a:lnTo>
                  <a:pt x="78" y="18"/>
                </a:lnTo>
                <a:lnTo>
                  <a:pt x="84" y="9"/>
                </a:lnTo>
                <a:lnTo>
                  <a:pt x="9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67040" y="4405320"/>
            <a:ext cx="27000" cy="115920"/>
          </a:xfrm>
          <a:custGeom>
            <a:avLst/>
            <a:gdLst/>
            <a:ahLst/>
            <a:rect l="l" t="t" r="r" b="b"/>
            <a:pathLst>
              <a:path w="17" h="73">
                <a:moveTo>
                  <a:pt x="16" y="0"/>
                </a:moveTo>
                <a:lnTo>
                  <a:pt x="16" y="9"/>
                </a:lnTo>
                <a:lnTo>
                  <a:pt x="16" y="18"/>
                </a:lnTo>
                <a:lnTo>
                  <a:pt x="16" y="27"/>
                </a:lnTo>
                <a:lnTo>
                  <a:pt x="16" y="36"/>
                </a:lnTo>
                <a:lnTo>
                  <a:pt x="16" y="45"/>
                </a:lnTo>
                <a:lnTo>
                  <a:pt x="8" y="54"/>
                </a:lnTo>
                <a:lnTo>
                  <a:pt x="8" y="63"/>
                </a:lnTo>
                <a:lnTo>
                  <a:pt x="0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95560" y="440064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45" y="12"/>
                </a:moveTo>
                <a:lnTo>
                  <a:pt x="39" y="3"/>
                </a:lnTo>
                <a:lnTo>
                  <a:pt x="30" y="0"/>
                </a:lnTo>
                <a:lnTo>
                  <a:pt x="21" y="0"/>
                </a:lnTo>
                <a:lnTo>
                  <a:pt x="12" y="0"/>
                </a:lnTo>
                <a:lnTo>
                  <a:pt x="6" y="9"/>
                </a:lnTo>
                <a:lnTo>
                  <a:pt x="3" y="18"/>
                </a:lnTo>
                <a:lnTo>
                  <a:pt x="0" y="27"/>
                </a:lnTo>
                <a:lnTo>
                  <a:pt x="0" y="36"/>
                </a:lnTo>
                <a:lnTo>
                  <a:pt x="3" y="45"/>
                </a:lnTo>
                <a:lnTo>
                  <a:pt x="12" y="45"/>
                </a:lnTo>
                <a:lnTo>
                  <a:pt x="21" y="45"/>
                </a:lnTo>
                <a:lnTo>
                  <a:pt x="30" y="45"/>
                </a:lnTo>
                <a:lnTo>
                  <a:pt x="39" y="48"/>
                </a:lnTo>
                <a:lnTo>
                  <a:pt x="42" y="57"/>
                </a:lnTo>
                <a:lnTo>
                  <a:pt x="42" y="66"/>
                </a:lnTo>
                <a:lnTo>
                  <a:pt x="42" y="75"/>
                </a:lnTo>
                <a:lnTo>
                  <a:pt x="33" y="84"/>
                </a:lnTo>
                <a:lnTo>
                  <a:pt x="24" y="84"/>
                </a:lnTo>
                <a:lnTo>
                  <a:pt x="15" y="84"/>
                </a:lnTo>
                <a:lnTo>
                  <a:pt x="6" y="84"/>
                </a:lnTo>
                <a:lnTo>
                  <a:pt x="0" y="7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05000" y="441000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3" y="0"/>
                </a:moveTo>
                <a:lnTo>
                  <a:pt x="3" y="9"/>
                </a:lnTo>
                <a:lnTo>
                  <a:pt x="3" y="18"/>
                </a:lnTo>
                <a:lnTo>
                  <a:pt x="3" y="27"/>
                </a:lnTo>
                <a:lnTo>
                  <a:pt x="3" y="36"/>
                </a:lnTo>
                <a:lnTo>
                  <a:pt x="3" y="45"/>
                </a:lnTo>
                <a:lnTo>
                  <a:pt x="3" y="54"/>
                </a:lnTo>
                <a:lnTo>
                  <a:pt x="3" y="63"/>
                </a:lnTo>
                <a:lnTo>
                  <a:pt x="0" y="72"/>
                </a:lnTo>
                <a:lnTo>
                  <a:pt x="0" y="81"/>
                </a:lnTo>
                <a:lnTo>
                  <a:pt x="9" y="84"/>
                </a:lnTo>
                <a:lnTo>
                  <a:pt x="18" y="81"/>
                </a:lnTo>
                <a:lnTo>
                  <a:pt x="27" y="78"/>
                </a:lnTo>
                <a:lnTo>
                  <a:pt x="36" y="72"/>
                </a:lnTo>
                <a:lnTo>
                  <a:pt x="39" y="63"/>
                </a:lnTo>
                <a:lnTo>
                  <a:pt x="45" y="54"/>
                </a:lnTo>
                <a:lnTo>
                  <a:pt x="45" y="45"/>
                </a:lnTo>
                <a:lnTo>
                  <a:pt x="45" y="36"/>
                </a:lnTo>
                <a:lnTo>
                  <a:pt x="42" y="27"/>
                </a:lnTo>
                <a:lnTo>
                  <a:pt x="36" y="18"/>
                </a:lnTo>
                <a:lnTo>
                  <a:pt x="27" y="12"/>
                </a:lnTo>
                <a:lnTo>
                  <a:pt x="18" y="6"/>
                </a:lnTo>
                <a:lnTo>
                  <a:pt x="9" y="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95720" y="4424400"/>
            <a:ext cx="144360" cy="120600"/>
          </a:xfrm>
          <a:custGeom>
            <a:avLst/>
            <a:gdLst/>
            <a:ahLst/>
            <a:rect l="l" t="t" r="r" b="b"/>
            <a:pathLst>
              <a:path w="91" h="76">
                <a:moveTo>
                  <a:pt x="3" y="0"/>
                </a:moveTo>
                <a:lnTo>
                  <a:pt x="0" y="12"/>
                </a:lnTo>
                <a:lnTo>
                  <a:pt x="3" y="21"/>
                </a:lnTo>
                <a:lnTo>
                  <a:pt x="6" y="30"/>
                </a:lnTo>
                <a:lnTo>
                  <a:pt x="6" y="39"/>
                </a:lnTo>
                <a:lnTo>
                  <a:pt x="9" y="48"/>
                </a:lnTo>
                <a:lnTo>
                  <a:pt x="9" y="57"/>
                </a:lnTo>
                <a:lnTo>
                  <a:pt x="15" y="66"/>
                </a:lnTo>
                <a:lnTo>
                  <a:pt x="15" y="75"/>
                </a:lnTo>
                <a:lnTo>
                  <a:pt x="24" y="72"/>
                </a:lnTo>
                <a:lnTo>
                  <a:pt x="33" y="63"/>
                </a:lnTo>
                <a:lnTo>
                  <a:pt x="36" y="54"/>
                </a:lnTo>
                <a:lnTo>
                  <a:pt x="39" y="45"/>
                </a:lnTo>
                <a:lnTo>
                  <a:pt x="42" y="54"/>
                </a:lnTo>
                <a:lnTo>
                  <a:pt x="51" y="60"/>
                </a:lnTo>
                <a:lnTo>
                  <a:pt x="54" y="69"/>
                </a:lnTo>
                <a:lnTo>
                  <a:pt x="63" y="72"/>
                </a:lnTo>
                <a:lnTo>
                  <a:pt x="66" y="63"/>
                </a:lnTo>
                <a:lnTo>
                  <a:pt x="69" y="54"/>
                </a:lnTo>
                <a:lnTo>
                  <a:pt x="72" y="45"/>
                </a:lnTo>
                <a:lnTo>
                  <a:pt x="75" y="36"/>
                </a:lnTo>
                <a:lnTo>
                  <a:pt x="78" y="27"/>
                </a:lnTo>
                <a:lnTo>
                  <a:pt x="81" y="18"/>
                </a:lnTo>
                <a:lnTo>
                  <a:pt x="87" y="9"/>
                </a:lnTo>
                <a:lnTo>
                  <a:pt x="9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14600" y="4433760"/>
            <a:ext cx="54000" cy="106560"/>
          </a:xfrm>
          <a:custGeom>
            <a:avLst/>
            <a:gdLst/>
            <a:ahLst/>
            <a:rect l="l" t="t" r="r" b="b"/>
            <a:pathLst>
              <a:path w="34" h="67">
                <a:moveTo>
                  <a:pt x="18" y="0"/>
                </a:moveTo>
                <a:lnTo>
                  <a:pt x="9" y="3"/>
                </a:lnTo>
                <a:lnTo>
                  <a:pt x="3" y="12"/>
                </a:lnTo>
                <a:lnTo>
                  <a:pt x="0" y="21"/>
                </a:lnTo>
                <a:lnTo>
                  <a:pt x="0" y="30"/>
                </a:lnTo>
                <a:lnTo>
                  <a:pt x="0" y="39"/>
                </a:lnTo>
                <a:lnTo>
                  <a:pt x="0" y="48"/>
                </a:lnTo>
                <a:lnTo>
                  <a:pt x="0" y="57"/>
                </a:lnTo>
                <a:lnTo>
                  <a:pt x="3" y="66"/>
                </a:lnTo>
                <a:lnTo>
                  <a:pt x="12" y="66"/>
                </a:lnTo>
                <a:lnTo>
                  <a:pt x="21" y="63"/>
                </a:lnTo>
                <a:lnTo>
                  <a:pt x="27" y="54"/>
                </a:lnTo>
                <a:lnTo>
                  <a:pt x="30" y="45"/>
                </a:lnTo>
                <a:lnTo>
                  <a:pt x="33" y="36"/>
                </a:lnTo>
                <a:lnTo>
                  <a:pt x="33" y="27"/>
                </a:lnTo>
                <a:lnTo>
                  <a:pt x="27" y="18"/>
                </a:lnTo>
                <a:lnTo>
                  <a:pt x="24" y="9"/>
                </a:lnTo>
                <a:lnTo>
                  <a:pt x="15" y="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476520" y="4433760"/>
            <a:ext cx="68400" cy="101880"/>
            <a:chOff x="3476520" y="4433760"/>
            <a:chExt cx="68400" cy="101880"/>
          </a:xfrm>
        </p:grpSpPr>
        <p:sp>
          <p:nvSpPr>
            <p:cNvPr id="191" name=""/>
            <p:cNvSpPr/>
            <p:nvPr/>
          </p:nvSpPr>
          <p:spPr>
            <a:xfrm>
              <a:off x="3476520" y="4433760"/>
              <a:ext cx="58680" cy="10188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0" y="0"/>
                  </a:moveTo>
                  <a:lnTo>
                    <a:pt x="9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18"/>
                  </a:lnTo>
                  <a:lnTo>
                    <a:pt x="33" y="27"/>
                  </a:lnTo>
                  <a:lnTo>
                    <a:pt x="30" y="36"/>
                  </a:lnTo>
                  <a:lnTo>
                    <a:pt x="24" y="45"/>
                  </a:lnTo>
                  <a:lnTo>
                    <a:pt x="21" y="54"/>
                  </a:lnTo>
                  <a:lnTo>
                    <a:pt x="18" y="63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00280" y="4486320"/>
              <a:ext cx="44640" cy="270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0" y="0"/>
                  </a:moveTo>
                  <a:lnTo>
                    <a:pt x="9" y="16"/>
                  </a:lnTo>
                  <a:lnTo>
                    <a:pt x="18" y="16"/>
                  </a:lnTo>
                  <a:lnTo>
                    <a:pt x="27" y="16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562200" y="4433760"/>
            <a:ext cx="44640" cy="106560"/>
          </a:xfrm>
          <a:custGeom>
            <a:avLst/>
            <a:gdLst/>
            <a:ahLst/>
            <a:rect l="l" t="t" r="r" b="b"/>
            <a:pathLst>
              <a:path w="28" h="67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4" y="9"/>
                </a:lnTo>
                <a:lnTo>
                  <a:pt x="27" y="18"/>
                </a:lnTo>
                <a:lnTo>
                  <a:pt x="27" y="27"/>
                </a:lnTo>
                <a:lnTo>
                  <a:pt x="18" y="30"/>
                </a:lnTo>
                <a:lnTo>
                  <a:pt x="9" y="33"/>
                </a:lnTo>
                <a:lnTo>
                  <a:pt x="18" y="33"/>
                </a:lnTo>
                <a:lnTo>
                  <a:pt x="24" y="42"/>
                </a:lnTo>
                <a:lnTo>
                  <a:pt x="27" y="51"/>
                </a:lnTo>
                <a:lnTo>
                  <a:pt x="27" y="60"/>
                </a:lnTo>
                <a:lnTo>
                  <a:pt x="18" y="63"/>
                </a:lnTo>
                <a:lnTo>
                  <a:pt x="9" y="66"/>
                </a:lnTo>
                <a:lnTo>
                  <a:pt x="0" y="6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33840" y="4419720"/>
            <a:ext cx="68040" cy="120600"/>
          </a:xfrm>
          <a:custGeom>
            <a:avLst/>
            <a:gdLst/>
            <a:ahLst/>
            <a:rect l="l" t="t" r="r" b="b"/>
            <a:pathLst>
              <a:path w="43" h="76">
                <a:moveTo>
                  <a:pt x="24" y="0"/>
                </a:moveTo>
                <a:lnTo>
                  <a:pt x="15" y="3"/>
                </a:lnTo>
                <a:lnTo>
                  <a:pt x="9" y="12"/>
                </a:lnTo>
                <a:lnTo>
                  <a:pt x="3" y="21"/>
                </a:lnTo>
                <a:lnTo>
                  <a:pt x="3" y="30"/>
                </a:lnTo>
                <a:lnTo>
                  <a:pt x="3" y="39"/>
                </a:lnTo>
                <a:lnTo>
                  <a:pt x="0" y="48"/>
                </a:lnTo>
                <a:lnTo>
                  <a:pt x="0" y="57"/>
                </a:lnTo>
                <a:lnTo>
                  <a:pt x="3" y="66"/>
                </a:lnTo>
                <a:lnTo>
                  <a:pt x="12" y="69"/>
                </a:lnTo>
                <a:lnTo>
                  <a:pt x="21" y="72"/>
                </a:lnTo>
                <a:lnTo>
                  <a:pt x="30" y="75"/>
                </a:lnTo>
                <a:lnTo>
                  <a:pt x="36" y="66"/>
                </a:lnTo>
                <a:lnTo>
                  <a:pt x="42" y="57"/>
                </a:lnTo>
                <a:lnTo>
                  <a:pt x="42" y="48"/>
                </a:lnTo>
                <a:lnTo>
                  <a:pt x="42" y="39"/>
                </a:lnTo>
                <a:lnTo>
                  <a:pt x="42" y="30"/>
                </a:lnTo>
                <a:lnTo>
                  <a:pt x="42" y="21"/>
                </a:lnTo>
                <a:lnTo>
                  <a:pt x="33" y="15"/>
                </a:lnTo>
                <a:lnTo>
                  <a:pt x="24" y="9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43280" y="441468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45" y="12"/>
                </a:moveTo>
                <a:lnTo>
                  <a:pt x="39" y="3"/>
                </a:lnTo>
                <a:lnTo>
                  <a:pt x="30" y="0"/>
                </a:lnTo>
                <a:lnTo>
                  <a:pt x="21" y="0"/>
                </a:lnTo>
                <a:lnTo>
                  <a:pt x="12" y="0"/>
                </a:lnTo>
                <a:lnTo>
                  <a:pt x="6" y="9"/>
                </a:lnTo>
                <a:lnTo>
                  <a:pt x="3" y="18"/>
                </a:lnTo>
                <a:lnTo>
                  <a:pt x="0" y="27"/>
                </a:lnTo>
                <a:lnTo>
                  <a:pt x="0" y="36"/>
                </a:lnTo>
                <a:lnTo>
                  <a:pt x="3" y="45"/>
                </a:lnTo>
                <a:lnTo>
                  <a:pt x="12" y="45"/>
                </a:lnTo>
                <a:lnTo>
                  <a:pt x="21" y="45"/>
                </a:lnTo>
                <a:lnTo>
                  <a:pt x="30" y="45"/>
                </a:lnTo>
                <a:lnTo>
                  <a:pt x="39" y="48"/>
                </a:lnTo>
                <a:lnTo>
                  <a:pt x="42" y="57"/>
                </a:lnTo>
                <a:lnTo>
                  <a:pt x="42" y="66"/>
                </a:lnTo>
                <a:lnTo>
                  <a:pt x="42" y="75"/>
                </a:lnTo>
                <a:lnTo>
                  <a:pt x="33" y="84"/>
                </a:lnTo>
                <a:lnTo>
                  <a:pt x="24" y="84"/>
                </a:lnTo>
                <a:lnTo>
                  <a:pt x="15" y="84"/>
                </a:lnTo>
                <a:lnTo>
                  <a:pt x="6" y="84"/>
                </a:lnTo>
                <a:lnTo>
                  <a:pt x="0" y="75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38680" y="4414680"/>
            <a:ext cx="7308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3" y="0"/>
                </a:moveTo>
                <a:lnTo>
                  <a:pt x="3" y="9"/>
                </a:lnTo>
                <a:lnTo>
                  <a:pt x="3" y="18"/>
                </a:lnTo>
                <a:lnTo>
                  <a:pt x="3" y="27"/>
                </a:lnTo>
                <a:lnTo>
                  <a:pt x="3" y="36"/>
                </a:lnTo>
                <a:lnTo>
                  <a:pt x="3" y="45"/>
                </a:lnTo>
                <a:lnTo>
                  <a:pt x="3" y="54"/>
                </a:lnTo>
                <a:lnTo>
                  <a:pt x="3" y="63"/>
                </a:lnTo>
                <a:lnTo>
                  <a:pt x="0" y="72"/>
                </a:lnTo>
                <a:lnTo>
                  <a:pt x="0" y="81"/>
                </a:lnTo>
                <a:lnTo>
                  <a:pt x="9" y="84"/>
                </a:lnTo>
                <a:lnTo>
                  <a:pt x="18" y="81"/>
                </a:lnTo>
                <a:lnTo>
                  <a:pt x="27" y="78"/>
                </a:lnTo>
                <a:lnTo>
                  <a:pt x="36" y="72"/>
                </a:lnTo>
                <a:lnTo>
                  <a:pt x="39" y="63"/>
                </a:lnTo>
                <a:lnTo>
                  <a:pt x="45" y="54"/>
                </a:lnTo>
                <a:lnTo>
                  <a:pt x="45" y="45"/>
                </a:lnTo>
                <a:lnTo>
                  <a:pt x="45" y="36"/>
                </a:lnTo>
                <a:lnTo>
                  <a:pt x="42" y="27"/>
                </a:lnTo>
                <a:lnTo>
                  <a:pt x="36" y="18"/>
                </a:lnTo>
                <a:lnTo>
                  <a:pt x="27" y="12"/>
                </a:lnTo>
                <a:lnTo>
                  <a:pt x="18" y="6"/>
                </a:lnTo>
                <a:lnTo>
                  <a:pt x="9" y="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09960" y="4429080"/>
            <a:ext cx="144360" cy="120600"/>
          </a:xfrm>
          <a:custGeom>
            <a:avLst/>
            <a:gdLst/>
            <a:ahLst/>
            <a:rect l="l" t="t" r="r" b="b"/>
            <a:pathLst>
              <a:path w="91" h="76">
                <a:moveTo>
                  <a:pt x="3" y="0"/>
                </a:moveTo>
                <a:lnTo>
                  <a:pt x="0" y="12"/>
                </a:lnTo>
                <a:lnTo>
                  <a:pt x="3" y="21"/>
                </a:lnTo>
                <a:lnTo>
                  <a:pt x="6" y="30"/>
                </a:lnTo>
                <a:lnTo>
                  <a:pt x="6" y="39"/>
                </a:lnTo>
                <a:lnTo>
                  <a:pt x="9" y="48"/>
                </a:lnTo>
                <a:lnTo>
                  <a:pt x="9" y="57"/>
                </a:lnTo>
                <a:lnTo>
                  <a:pt x="15" y="66"/>
                </a:lnTo>
                <a:lnTo>
                  <a:pt x="15" y="75"/>
                </a:lnTo>
                <a:lnTo>
                  <a:pt x="24" y="72"/>
                </a:lnTo>
                <a:lnTo>
                  <a:pt x="33" y="63"/>
                </a:lnTo>
                <a:lnTo>
                  <a:pt x="36" y="54"/>
                </a:lnTo>
                <a:lnTo>
                  <a:pt x="39" y="45"/>
                </a:lnTo>
                <a:lnTo>
                  <a:pt x="42" y="54"/>
                </a:lnTo>
                <a:lnTo>
                  <a:pt x="51" y="60"/>
                </a:lnTo>
                <a:lnTo>
                  <a:pt x="54" y="69"/>
                </a:lnTo>
                <a:lnTo>
                  <a:pt x="63" y="72"/>
                </a:lnTo>
                <a:lnTo>
                  <a:pt x="66" y="63"/>
                </a:lnTo>
                <a:lnTo>
                  <a:pt x="69" y="54"/>
                </a:lnTo>
                <a:lnTo>
                  <a:pt x="72" y="45"/>
                </a:lnTo>
                <a:lnTo>
                  <a:pt x="75" y="36"/>
                </a:lnTo>
                <a:lnTo>
                  <a:pt x="78" y="27"/>
                </a:lnTo>
                <a:lnTo>
                  <a:pt x="81" y="18"/>
                </a:lnTo>
                <a:lnTo>
                  <a:pt x="87" y="9"/>
                </a:lnTo>
                <a:lnTo>
                  <a:pt x="90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181400" y="4433760"/>
            <a:ext cx="158760" cy="111240"/>
            <a:chOff x="4181400" y="4433760"/>
            <a:chExt cx="158760" cy="111240"/>
          </a:xfrm>
        </p:grpSpPr>
        <p:grpSp>
          <p:nvGrpSpPr>
            <p:cNvPr id="199" name=""/>
            <p:cNvGrpSpPr/>
            <p:nvPr/>
          </p:nvGrpSpPr>
          <p:grpSpPr>
            <a:xfrm>
              <a:off x="4205160" y="4443480"/>
              <a:ext cx="68400" cy="101520"/>
              <a:chOff x="4205160" y="4443480"/>
              <a:chExt cx="68400" cy="101520"/>
            </a:xfrm>
          </p:grpSpPr>
          <p:sp>
            <p:nvSpPr>
              <p:cNvPr id="200" name=""/>
              <p:cNvSpPr/>
              <p:nvPr/>
            </p:nvSpPr>
            <p:spPr>
              <a:xfrm>
                <a:off x="4205160" y="4443480"/>
                <a:ext cx="59040" cy="101520"/>
              </a:xfrm>
              <a:custGeom>
                <a:avLst/>
                <a:gdLst/>
                <a:ahLst/>
                <a:rect l="l" t="t" r="r" b="b"/>
                <a:pathLst>
                  <a:path w="37" h="64">
                    <a:moveTo>
                      <a:pt x="0" y="0"/>
                    </a:moveTo>
                    <a:lnTo>
                      <a:pt x="9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36" y="9"/>
                    </a:lnTo>
                    <a:lnTo>
                      <a:pt x="36" y="18"/>
                    </a:lnTo>
                    <a:lnTo>
                      <a:pt x="33" y="27"/>
                    </a:lnTo>
                    <a:lnTo>
                      <a:pt x="30" y="36"/>
                    </a:lnTo>
                    <a:lnTo>
                      <a:pt x="24" y="45"/>
                    </a:lnTo>
                    <a:lnTo>
                      <a:pt x="21" y="54"/>
                    </a:lnTo>
                    <a:lnTo>
                      <a:pt x="18" y="63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229280" y="4495680"/>
                <a:ext cx="44280" cy="2700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9" y="16"/>
                    </a:lnTo>
                    <a:lnTo>
                      <a:pt x="18" y="16"/>
                    </a:lnTo>
                    <a:lnTo>
                      <a:pt x="27" y="16"/>
                    </a:lnTo>
                  </a:path>
                </a:pathLst>
              </a:custGeom>
              <a:noFill/>
              <a:ln cap="rnd" w="1260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4286160" y="4433760"/>
              <a:ext cx="54000" cy="106560"/>
            </a:xfrm>
            <a:custGeom>
              <a:avLst/>
              <a:gdLst/>
              <a:ahLst/>
              <a:rect l="l" t="t" r="r" b="b"/>
              <a:pathLst>
                <a:path w="34" h="67">
                  <a:moveTo>
                    <a:pt x="18" y="0"/>
                  </a:moveTo>
                  <a:lnTo>
                    <a:pt x="9" y="3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3" y="66"/>
                  </a:lnTo>
                  <a:lnTo>
                    <a:pt x="12" y="66"/>
                  </a:lnTo>
                  <a:lnTo>
                    <a:pt x="21" y="63"/>
                  </a:lnTo>
                  <a:lnTo>
                    <a:pt x="27" y="54"/>
                  </a:lnTo>
                  <a:lnTo>
                    <a:pt x="30" y="45"/>
                  </a:lnTo>
                  <a:lnTo>
                    <a:pt x="33" y="36"/>
                  </a:lnTo>
                  <a:lnTo>
                    <a:pt x="33" y="27"/>
                  </a:lnTo>
                  <a:lnTo>
                    <a:pt x="27" y="18"/>
                  </a:lnTo>
                  <a:lnTo>
                    <a:pt x="24" y="9"/>
                  </a:lnTo>
                  <a:lnTo>
                    <a:pt x="15" y="6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81400" y="4438800"/>
              <a:ext cx="27000" cy="101520"/>
            </a:xfrm>
            <a:custGeom>
              <a:avLst/>
              <a:gdLst/>
              <a:ahLst/>
              <a:rect l="l" t="t" r="r" b="b"/>
              <a:pathLst>
                <a:path w="17" h="64">
                  <a:moveTo>
                    <a:pt x="0" y="0"/>
                  </a:moveTo>
                  <a:lnTo>
                    <a:pt x="8" y="9"/>
                  </a:lnTo>
                  <a:lnTo>
                    <a:pt x="8" y="18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16" y="45"/>
                  </a:lnTo>
                  <a:lnTo>
                    <a:pt x="16" y="54"/>
                  </a:lnTo>
                  <a:lnTo>
                    <a:pt x="16" y="63"/>
                  </a:lnTo>
                </a:path>
              </a:pathLst>
            </a:custGeom>
            <a:noFill/>
            <a:ln cap="rnd" w="1260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357800" y="4433760"/>
            <a:ext cx="77760" cy="106560"/>
          </a:xfrm>
          <a:custGeom>
            <a:avLst/>
            <a:gdLst/>
            <a:ahLst/>
            <a:rect l="l" t="t" r="r" b="b"/>
            <a:pathLst>
              <a:path w="49" h="67">
                <a:moveTo>
                  <a:pt x="18" y="0"/>
                </a:moveTo>
                <a:lnTo>
                  <a:pt x="12" y="9"/>
                </a:lnTo>
                <a:lnTo>
                  <a:pt x="6" y="18"/>
                </a:lnTo>
                <a:lnTo>
                  <a:pt x="3" y="27"/>
                </a:lnTo>
                <a:lnTo>
                  <a:pt x="3" y="36"/>
                </a:lnTo>
                <a:lnTo>
                  <a:pt x="0" y="45"/>
                </a:lnTo>
                <a:lnTo>
                  <a:pt x="0" y="54"/>
                </a:lnTo>
                <a:lnTo>
                  <a:pt x="6" y="63"/>
                </a:lnTo>
                <a:lnTo>
                  <a:pt x="15" y="66"/>
                </a:lnTo>
                <a:lnTo>
                  <a:pt x="24" y="66"/>
                </a:lnTo>
                <a:lnTo>
                  <a:pt x="33" y="66"/>
                </a:lnTo>
                <a:lnTo>
                  <a:pt x="42" y="63"/>
                </a:lnTo>
                <a:lnTo>
                  <a:pt x="45" y="54"/>
                </a:lnTo>
                <a:lnTo>
                  <a:pt x="48" y="45"/>
                </a:lnTo>
                <a:lnTo>
                  <a:pt x="48" y="36"/>
                </a:lnTo>
                <a:lnTo>
                  <a:pt x="42" y="27"/>
                </a:lnTo>
                <a:lnTo>
                  <a:pt x="33" y="24"/>
                </a:lnTo>
                <a:lnTo>
                  <a:pt x="33" y="15"/>
                </a:lnTo>
                <a:lnTo>
                  <a:pt x="21" y="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05480" y="4410000"/>
            <a:ext cx="72720" cy="135000"/>
          </a:xfrm>
          <a:custGeom>
            <a:avLst/>
            <a:gdLst/>
            <a:ahLst/>
            <a:rect l="l" t="t" r="r" b="b"/>
            <a:pathLst>
              <a:path w="46" h="85">
                <a:moveTo>
                  <a:pt x="3" y="0"/>
                </a:moveTo>
                <a:lnTo>
                  <a:pt x="3" y="9"/>
                </a:lnTo>
                <a:lnTo>
                  <a:pt x="3" y="18"/>
                </a:lnTo>
                <a:lnTo>
                  <a:pt x="3" y="27"/>
                </a:lnTo>
                <a:lnTo>
                  <a:pt x="3" y="36"/>
                </a:lnTo>
                <a:lnTo>
                  <a:pt x="3" y="45"/>
                </a:lnTo>
                <a:lnTo>
                  <a:pt x="3" y="54"/>
                </a:lnTo>
                <a:lnTo>
                  <a:pt x="3" y="63"/>
                </a:lnTo>
                <a:lnTo>
                  <a:pt x="0" y="72"/>
                </a:lnTo>
                <a:lnTo>
                  <a:pt x="0" y="81"/>
                </a:lnTo>
                <a:lnTo>
                  <a:pt x="9" y="84"/>
                </a:lnTo>
                <a:lnTo>
                  <a:pt x="18" y="81"/>
                </a:lnTo>
                <a:lnTo>
                  <a:pt x="27" y="78"/>
                </a:lnTo>
                <a:lnTo>
                  <a:pt x="36" y="72"/>
                </a:lnTo>
                <a:lnTo>
                  <a:pt x="39" y="63"/>
                </a:lnTo>
                <a:lnTo>
                  <a:pt x="45" y="54"/>
                </a:lnTo>
                <a:lnTo>
                  <a:pt x="45" y="45"/>
                </a:lnTo>
                <a:lnTo>
                  <a:pt x="45" y="36"/>
                </a:lnTo>
                <a:lnTo>
                  <a:pt x="42" y="27"/>
                </a:lnTo>
                <a:lnTo>
                  <a:pt x="36" y="18"/>
                </a:lnTo>
                <a:lnTo>
                  <a:pt x="27" y="12"/>
                </a:lnTo>
                <a:lnTo>
                  <a:pt x="18" y="6"/>
                </a:lnTo>
                <a:lnTo>
                  <a:pt x="9" y="3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9320" y="4414680"/>
            <a:ext cx="27000" cy="115920"/>
          </a:xfrm>
          <a:custGeom>
            <a:avLst/>
            <a:gdLst/>
            <a:ahLst/>
            <a:rect l="l" t="t" r="r" b="b"/>
            <a:pathLst>
              <a:path w="17" h="73">
                <a:moveTo>
                  <a:pt x="0" y="0"/>
                </a:moveTo>
                <a:lnTo>
                  <a:pt x="0" y="9"/>
                </a:lnTo>
                <a:lnTo>
                  <a:pt x="0" y="18"/>
                </a:lnTo>
                <a:lnTo>
                  <a:pt x="0" y="27"/>
                </a:lnTo>
                <a:lnTo>
                  <a:pt x="0" y="36"/>
                </a:lnTo>
                <a:lnTo>
                  <a:pt x="0" y="45"/>
                </a:lnTo>
                <a:lnTo>
                  <a:pt x="0" y="54"/>
                </a:lnTo>
                <a:lnTo>
                  <a:pt x="16" y="63"/>
                </a:lnTo>
                <a:lnTo>
                  <a:pt x="16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86480" y="4419720"/>
            <a:ext cx="101520" cy="1440"/>
          </a:xfrm>
          <a:custGeom>
            <a:avLst/>
            <a:gdLst/>
            <a:ahLst/>
            <a:rect l="l" t="t" r="r" b="b"/>
            <a:pathLst>
              <a:path w="64" h="1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54" y="0"/>
                </a:lnTo>
                <a:lnTo>
                  <a:pt x="63" y="0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4424400"/>
            <a:ext cx="1440" cy="106200"/>
          </a:xfrm>
          <a:custGeom>
            <a:avLst/>
            <a:gdLst/>
            <a:ahLst/>
            <a:rect l="l" t="t" r="r" b="b"/>
            <a:pathLst>
              <a:path w="1" h="67">
                <a:moveTo>
                  <a:pt x="0" y="0"/>
                </a:moveTo>
                <a:lnTo>
                  <a:pt x="0" y="12"/>
                </a:lnTo>
                <a:lnTo>
                  <a:pt x="0" y="21"/>
                </a:lnTo>
                <a:lnTo>
                  <a:pt x="0" y="30"/>
                </a:lnTo>
                <a:lnTo>
                  <a:pt x="0" y="39"/>
                </a:lnTo>
                <a:lnTo>
                  <a:pt x="0" y="48"/>
                </a:lnTo>
                <a:lnTo>
                  <a:pt x="0" y="57"/>
                </a:lnTo>
                <a:lnTo>
                  <a:pt x="0" y="66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00760" y="442908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0" y="0"/>
                </a:moveTo>
                <a:lnTo>
                  <a:pt x="9" y="0"/>
                </a:lnTo>
                <a:lnTo>
                  <a:pt x="18" y="0"/>
                </a:lnTo>
                <a:lnTo>
                  <a:pt x="27" y="0"/>
                </a:lnTo>
                <a:lnTo>
                  <a:pt x="36" y="0"/>
                </a:lnTo>
                <a:lnTo>
                  <a:pt x="45" y="0"/>
                </a:lnTo>
                <a:lnTo>
                  <a:pt x="48" y="9"/>
                </a:lnTo>
                <a:lnTo>
                  <a:pt x="45" y="18"/>
                </a:lnTo>
                <a:lnTo>
                  <a:pt x="42" y="27"/>
                </a:lnTo>
                <a:lnTo>
                  <a:pt x="39" y="36"/>
                </a:lnTo>
                <a:lnTo>
                  <a:pt x="33" y="45"/>
                </a:lnTo>
                <a:lnTo>
                  <a:pt x="30" y="54"/>
                </a:lnTo>
                <a:lnTo>
                  <a:pt x="27" y="63"/>
                </a:lnTo>
                <a:lnTo>
                  <a:pt x="24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91120" y="4429080"/>
            <a:ext cx="92160" cy="111240"/>
          </a:xfrm>
          <a:custGeom>
            <a:avLst/>
            <a:gdLst/>
            <a:ahLst/>
            <a:rect l="l" t="t" r="r" b="b"/>
            <a:pathLst>
              <a:path w="58" h="70">
                <a:moveTo>
                  <a:pt x="6" y="0"/>
                </a:moveTo>
                <a:lnTo>
                  <a:pt x="15" y="0"/>
                </a:lnTo>
                <a:lnTo>
                  <a:pt x="24" y="0"/>
                </a:lnTo>
                <a:lnTo>
                  <a:pt x="33" y="0"/>
                </a:lnTo>
                <a:lnTo>
                  <a:pt x="42" y="9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6" y="54"/>
                </a:lnTo>
                <a:lnTo>
                  <a:pt x="27" y="60"/>
                </a:lnTo>
                <a:lnTo>
                  <a:pt x="18" y="66"/>
                </a:lnTo>
                <a:lnTo>
                  <a:pt x="9" y="69"/>
                </a:lnTo>
                <a:lnTo>
                  <a:pt x="0" y="69"/>
                </a:lnTo>
                <a:lnTo>
                  <a:pt x="3" y="60"/>
                </a:lnTo>
                <a:lnTo>
                  <a:pt x="12" y="57"/>
                </a:lnTo>
                <a:lnTo>
                  <a:pt x="21" y="57"/>
                </a:lnTo>
                <a:lnTo>
                  <a:pt x="30" y="60"/>
                </a:lnTo>
                <a:lnTo>
                  <a:pt x="39" y="69"/>
                </a:lnTo>
                <a:lnTo>
                  <a:pt x="48" y="69"/>
                </a:lnTo>
                <a:lnTo>
                  <a:pt x="57" y="69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6520" y="4429080"/>
            <a:ext cx="77760" cy="63720"/>
          </a:xfrm>
          <a:custGeom>
            <a:avLst/>
            <a:gdLst/>
            <a:ahLst/>
            <a:rect l="l" t="t" r="r" b="b"/>
            <a:pathLst>
              <a:path w="49" h="40">
                <a:moveTo>
                  <a:pt x="6" y="0"/>
                </a:moveTo>
                <a:lnTo>
                  <a:pt x="6" y="9"/>
                </a:lnTo>
                <a:lnTo>
                  <a:pt x="6" y="18"/>
                </a:lnTo>
                <a:lnTo>
                  <a:pt x="3" y="27"/>
                </a:lnTo>
                <a:lnTo>
                  <a:pt x="0" y="36"/>
                </a:lnTo>
                <a:lnTo>
                  <a:pt x="12" y="39"/>
                </a:lnTo>
                <a:lnTo>
                  <a:pt x="21" y="39"/>
                </a:lnTo>
                <a:lnTo>
                  <a:pt x="30" y="39"/>
                </a:lnTo>
                <a:lnTo>
                  <a:pt x="39" y="39"/>
                </a:lnTo>
                <a:lnTo>
                  <a:pt x="48" y="39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43400" y="4424400"/>
            <a:ext cx="27000" cy="115920"/>
          </a:xfrm>
          <a:custGeom>
            <a:avLst/>
            <a:gdLst/>
            <a:ahLst/>
            <a:rect l="l" t="t" r="r" b="b"/>
            <a:pathLst>
              <a:path w="17" h="73">
                <a:moveTo>
                  <a:pt x="16" y="0"/>
                </a:moveTo>
                <a:lnTo>
                  <a:pt x="16" y="9"/>
                </a:lnTo>
                <a:lnTo>
                  <a:pt x="16" y="18"/>
                </a:lnTo>
                <a:lnTo>
                  <a:pt x="16" y="27"/>
                </a:lnTo>
                <a:lnTo>
                  <a:pt x="16" y="36"/>
                </a:lnTo>
                <a:lnTo>
                  <a:pt x="16" y="45"/>
                </a:lnTo>
                <a:lnTo>
                  <a:pt x="8" y="54"/>
                </a:lnTo>
                <a:lnTo>
                  <a:pt x="8" y="63"/>
                </a:lnTo>
                <a:lnTo>
                  <a:pt x="0" y="72"/>
                </a:lnTo>
              </a:path>
            </a:pathLst>
          </a:custGeom>
          <a:noFill/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06760" y="2625840"/>
            <a:ext cx="425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OS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45280" y="2619360"/>
            <a:ext cx="6757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5th Flo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09280" y="2625840"/>
            <a:ext cx="503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SA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78320" y="2619360"/>
            <a:ext cx="569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12345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75080" y="39528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NDARD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0" y="1523880"/>
            <a:ext cx="9141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0" y="1919160"/>
            <a:ext cx="213876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 may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ed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al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94440" y="2271600"/>
            <a:ext cx="1311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F 7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79880" y="1706400"/>
            <a:ext cx="237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OF SF 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56F-E4F2-441F-8005-B947CB8A18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44000" y="152280"/>
            <a:ext cx="7119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Container 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90720"/>
            <a:ext cx="9142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7480" y="1052640"/>
            <a:ext cx="848160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uct a thorough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 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f your security container. 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Determine if you have a continuous use/need for the each clas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stored in your security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Review ALL classified holdings for possible downgr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declassification under E.O 129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classified  materials being retained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ppropriate classified cover sheets atta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classified  materials being retained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erly mark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Secret and Top Secret materials are record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Classified Material Control Inventory Form CD-48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Ensure that ALL Secret/Top Secret materials selected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truction are recorded on the form CD-481 and are destroyed by approved metho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854840" y="0"/>
          <a:ext cx="119088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4840" y="0"/>
                    <a:ext cx="119088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7920" y="0"/>
          <a:ext cx="119052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" y="0"/>
                    <a:ext cx="11905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3C9-EAC3-474B-BE96-2F4F8A1D61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rroll Ward</dc:creator>
  <dc:description/>
  <dc:language>en-US</dc:language>
  <cp:lastModifiedBy>Carroll.R.Ward</cp:lastModifiedBy>
  <cp:lastPrinted>1997-10-10T17:39:42Z</cp:lastPrinted>
  <dcterms:modified xsi:type="dcterms:W3CDTF">2008-06-10T18:52:57Z</dcterms:modified>
  <cp:revision>60</cp:revision>
  <dc:subject/>
  <dc:title>HOW TO MANAGE  YOUR SECURITY CONTAINER</dc:title>
</cp:coreProperties>
</file>